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620006"/>
        <c:axId val="66311571"/>
      </c:barChart>
      <c:catAx>
        <c:axId val="526200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11571"/>
        <c:crosses val="autoZero"/>
        <c:auto val="1"/>
        <c:lblAlgn val="ctr"/>
        <c:lblOffset val="100"/>
        <c:noMultiLvlLbl val="0"/>
      </c:catAx>
      <c:valAx>
        <c:axId val="663115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200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B09-9D49-488C-B64A-2B815197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76E2-9BFC-4918-B8C3-8247A683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C1E4-0C8E-4F18-A3F5-79903401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F509-A8AB-4831-8D13-153A4976B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55FF-45B9-46A8-89C8-60861D87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CEA9-0CCB-4FA0-B6CF-819E9B54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F374-8488-40E2-95AA-BF564D51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AE76-E10D-4C44-ABBA-38A5CE9D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C859-B83A-4CFE-AD6A-6633D506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B46-E6BE-4AB2-98D4-9D7FAB74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8CD-30DF-46F8-9770-8B7274E7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4F2A-93AF-49C2-B1A6-23DD14E1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C1B8B-1ED2-41CB-A40B-F7C680188D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