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770073"/>
        <c:axId val="94402659"/>
      </c:barChart>
      <c:catAx>
        <c:axId val="797700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402659"/>
        <c:crosses val="autoZero"/>
        <c:auto val="1"/>
        <c:lblAlgn val="ctr"/>
        <c:lblOffset val="100"/>
        <c:noMultiLvlLbl val="0"/>
      </c:catAx>
      <c:valAx>
        <c:axId val="944026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7700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41DC-1722-4816-882A-2E1A3FA05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53DC-F924-4A09-86B9-1A277CB43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8A66-E1D9-41BA-B833-CFB0DDD5C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8EC3-6896-45A1-A4E5-63CFFA0EB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FFFD-790B-4898-9482-F7D7DAE20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2F9D-82F6-45B1-8066-75A9A5CA2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5D88-692D-4355-B5E0-7CFFFFEF9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7435-B604-4DC9-B7D8-49A505EC0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95D1-19A9-4ED9-8409-0713E6CB8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1E99-C3C6-4934-9C01-BEBCA8A7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0BC9-F402-4A92-B96F-D49F1C9E4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1393-DE33-47BC-848E-BB845AF74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5F03DB-89FD-47BF-83DB-5A09324DC97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